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220-D546-4E01-9E8E-66FD346C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B79-64A5-446F-84ED-766A621A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C4B-9D01-46C6-B919-5164EDAD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653-3AFA-4D6C-8512-B25F2FC1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0020-B369-4FA9-9F88-1A6AC429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0F89-9F39-4E7E-92E4-202F0521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873B-E067-4C02-A203-54DF474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975D-3AAD-470F-B86A-74AF857B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743D-759D-47B1-8CED-C45E84EC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BCB5-5727-4D55-AB48-AE7F52D9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EBA4-2B61-47F8-8EB4-32C5096F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0D8-D053-4F30-A596-EADCB9A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E361-657B-4642-ABC3-AABEC2AB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7EA2-A00B-4ABD-8EED-331F429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D2F5-A165-4A97-82AF-0638D0DD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75C1-3496-4D73-A6C1-C9559B56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E406-087B-4B0E-9B08-6957A591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E1B0-C6FF-4D82-9A57-B7CC3B0A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43F2-7AD1-4EE0-8451-DCD8A0D9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5EEF-DD68-4DBC-9B86-C4D65FD4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DABB-2A22-40F2-942F-F384FE3A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20F0-BACF-4E34-95E9-188999CF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D9F-A7A0-4C84-9B00-139D3A5F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A4569-5977-41C5-99E2-A782A095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A468-BC44-48A9-90EC-A2215FF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44FF-E08C-4004-BAB8-CCD9DD26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C3DF-B91C-48F8-A3BA-D6853CE9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318B-95DF-43A8-96A1-D1883D47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FBB8-33C3-4D46-B135-42F6C3EB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414F-A083-4C2F-B21F-6CEBCEAE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5278-BE93-4D60-B57D-082CC420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93A7-D8F8-4B14-8BF3-B0CD3AB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0B25-C17B-45DA-AEEB-96C460A1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F70-3BBF-4A64-9A2C-78E50D14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38F5-FFE2-4A29-98E3-CAB34BFD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8A00-CB68-45C3-A580-B94C48EC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288A-0AB8-42F7-9C41-BD07CB9D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0D65-3D70-4233-8A2A-1C9242A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364C-DCE7-41BF-8076-CC966D6E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2E56-5003-4399-BEA4-7A11FEC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7641-BE68-4AB2-B486-F521DB5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5625-DBE9-4E06-87C1-8C98260E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A91C1-C1CC-48A9-86F7-9B3D14E1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70498-E656-4F9C-84D7-36763E5C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9E2-5748-4A5C-82E3-EE45CCD1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CD950-3700-472E-AF8D-C94FC2B3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DF75-9EAA-42E3-85A1-9ADD4123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2ED13-115A-49FE-BCDC-8010192F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BF0C6-CA6F-433F-9B24-7F14B7D2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0081E-4DCF-44BD-8AE8-F5C9F4FC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1548-1C4D-42F8-98A6-52A9A8AF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C4DFA-006E-42BD-A7A6-EFB1EDD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1AE6-C6CB-4124-B549-66E9D24D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E13E-DE99-4586-9862-9395D9E4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BD70-027D-4DC4-93E4-CE86A0A5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8AA-B85B-47CC-83D6-940C821E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EF4EC-756C-417B-B7A2-CF4391F9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696C3-C0FB-426F-ABD7-E1F006D5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B32B3-9046-4F8C-9EFF-A9D51DE9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7D28B-F068-4815-A48A-F0E9C425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E3874-040B-4FC4-BBC2-2ABC43B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070DE-AE70-4F95-92ED-BDEBA83D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3099-DF17-46F7-B710-4A061A79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A6D0-4213-4E10-AE29-E42AC45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2A12-4CC4-4B51-9FC8-52335D5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84B72-BF11-4E98-8173-33C55B4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B9A-7CA5-4C34-BE28-4F5D9FAC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3E5F-B3CE-4DBE-8EFA-A4EC8780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322C-17E8-4134-A1C6-A2AC52D7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742D2-DE14-4D29-9E3F-60424CA6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392-B3E7-435C-A43D-83C4C1B6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CDA-9353-4869-A952-236C8E61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92EE-31DD-4F38-B0CA-B904F687BF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8E2-5C68-480C-BC13-9C4C964777D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9E4E-6B18-4C13-9460-4316450AB4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5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5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6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7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7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7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7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7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7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7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20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221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3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4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5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6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7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28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34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35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6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7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38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239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0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1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42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243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4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5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46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47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8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9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0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51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2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3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54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6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7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8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9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702E-E899-44FF-B761-7DEBBCC520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0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0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0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0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0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F4DE-3B7D-4214-8D42-D2CD8E61A65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5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5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5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36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6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6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7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37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5F5-616C-42AE-ADF1-E8A8860B0D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596880"/>
            <a:ext cx="8253360" cy="561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СРЕДСТВА</a:t>
            </a: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ХУДОЖЕСТВЕННОЙ ВЫРАЗИТЕЛЬНОСТИ</a:t>
            </a:r>
            <a:br>
              <a:rPr sz="5200"/>
            </a:br>
            <a:br>
              <a:rPr sz="5200"/>
            </a:b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         </a:t>
            </a: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Учитель русского языка и литературы МОУ «СОШ№1»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Сосулина Галина Владимировна</a:t>
            </a:r>
            <a:br>
              <a:rPr sz="5200"/>
            </a:br>
            <a:br>
              <a:rPr sz="5200"/>
            </a:br>
            <a:endParaRPr b="0" lang="en-US" sz="1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ипербол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зное выражение, содержащее непомерное преувеличение какого-либо явления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 видел тебя целую вечность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лезы в три ручья, сто раз тебе повторя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сто сорок солнц закат пылал (В. Маяковский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Т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ражение, содержащее непомерное преуменьшение размера, силы, значения какого-либо я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иже тоненькой былиночки надо голову клонить… (Н.Некрасо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ЛЛЕГОР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осказательное изображение отвлеченного понятия при помощи конкретного жизненного образ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спользуется в баснях и сказках, где носителями свойств людей выступают животные, предметы, явления прир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ЕТОНИМ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о или выражение, которое употребляется в переносном значении на основе внешней или внутренней связи между двумя предметами или явлени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Я три тарелки съел (И.Крыл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ЕКДОХ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овидность метонимии, основанная на перенесении значения с одного явления на другое по признаку количественного отношения между 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се спит – и человек, и зверь, и птица. (Н.В.Гогол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РИФРАЗА          (ПАРАФРАЗ, ПАРАФРАЗ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рот, состоящий в замене названия предмета или явления описанием их существенных признаков или указанием на их характерные чер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втор «Героя нашего времени» (вместо М.Ю.Лермонт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РО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отребление слова или выражения в смысле, обратном буквальному, с целью насмеш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Генералы и мужика не забыли. Выслали ему рюмку водки: «Веселись, мужичина!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2800" y="1483920"/>
            <a:ext cx="8244000" cy="35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ТИЛИСТИЧЕСКИЕ СРЕДСТВА ИЗОБРАЗИТЕЛЬНОСТИ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ФИГУРЫ РЕЧИ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НАФО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вторение отдельных слов или оборотов в начале отрывков, из которых строится высказыв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Клянусь я первым днем творень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Клянусь его последним днем, Клянусь позором преступленья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И вечной правды торжеством (М.Ю.Лермонтов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ПИФО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вторение слов или выражений в конце смежных отрывков (предложений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Мне бы хотелось знать, отчего я титулярный советник? Почему я титулярный советник? (Н.В.Гоголь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Organization Chart 7"/>
          <p:cNvGrpSpPr/>
          <p:nvPr/>
        </p:nvGrpSpPr>
        <p:grpSpPr>
          <a:xfrm>
            <a:off x="431640" y="404640"/>
            <a:ext cx="8208360" cy="5686560"/>
            <a:chOff x="431640" y="404640"/>
            <a:chExt cx="8208360" cy="5686560"/>
          </a:xfrm>
        </p:grpSpPr>
        <p:cxnSp>
          <p:nvCxnSpPr>
            <p:cNvPr id="419" name="_s1028"/>
            <p:cNvCxnSpPr>
              <a:stCxn id="420" idx="0"/>
              <a:endCxn id="421" idx="2"/>
            </p:cNvCxnSpPr>
            <p:nvPr/>
          </p:nvCxnSpPr>
          <p:spPr>
            <a:xfrm flipV="1" rot="16200000">
              <a:off x="5403600" y="1810440"/>
              <a:ext cx="1137600" cy="2873520"/>
            </a:xfrm>
            <a:prstGeom prst="bentConnector3">
              <a:avLst>
                <a:gd name="adj1" fmla="val 13010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422" name="_s1029"/>
            <p:cNvCxnSpPr>
              <a:stCxn id="423" idx="0"/>
              <a:endCxn id="421" idx="2"/>
            </p:cNvCxnSpPr>
            <p:nvPr/>
          </p:nvCxnSpPr>
          <p:spPr>
            <a:xfrm flipV="1">
              <a:off x="4536000" y="2678760"/>
              <a:ext cx="3600" cy="1137600"/>
            </a:xfrm>
            <a:prstGeom prst="bentConnector2">
              <a:avLst/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424" name="_s1030"/>
            <p:cNvCxnSpPr>
              <a:stCxn id="425" idx="0"/>
              <a:endCxn id="421" idx="2"/>
            </p:cNvCxnSpPr>
            <p:nvPr/>
          </p:nvCxnSpPr>
          <p:spPr>
            <a:xfrm flipH="1" flipV="1" rot="5400000">
              <a:off x="2530440" y="1810800"/>
              <a:ext cx="1137600" cy="2873520"/>
            </a:xfrm>
            <a:prstGeom prst="bentConnector3">
              <a:avLst>
                <a:gd name="adj1" fmla="val 13010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421" name="_s1031"/>
            <p:cNvSpPr/>
            <p:nvPr/>
          </p:nvSpPr>
          <p:spPr>
            <a:xfrm>
              <a:off x="3304440" y="404640"/>
              <a:ext cx="2462400" cy="22744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Verdana"/>
                </a:rPr>
                <a:t>Средства 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Verdana"/>
                </a:rPr>
                <a:t>художественной 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Verdana"/>
                </a:rPr>
                <a:t>выразительности</a:t>
              </a:r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5" name="_s1032"/>
            <p:cNvSpPr/>
            <p:nvPr/>
          </p:nvSpPr>
          <p:spPr>
            <a:xfrm>
              <a:off x="431640" y="3816720"/>
              <a:ext cx="2462400" cy="22744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66"/>
                  </a:solidFill>
                  <a:latin typeface="Verdana"/>
                </a:rPr>
                <a:t>ЛЕКСИЧЕСКИЕ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3" name="_s1033"/>
            <p:cNvSpPr/>
            <p:nvPr/>
          </p:nvSpPr>
          <p:spPr>
            <a:xfrm>
              <a:off x="3304440" y="3816720"/>
              <a:ext cx="2462400" cy="22744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99"/>
                  </a:solidFill>
                  <a:latin typeface="Verdana"/>
                </a:rPr>
                <a:t>СТИЛИСТИ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99"/>
                  </a:solidFill>
                  <a:latin typeface="Verdana"/>
                </a:rPr>
                <a:t>ЧЕСКИЕ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0" name="_s1034"/>
            <p:cNvSpPr/>
            <p:nvPr/>
          </p:nvSpPr>
          <p:spPr>
            <a:xfrm>
              <a:off x="6177600" y="3816720"/>
              <a:ext cx="2462400" cy="227448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99"/>
                  </a:solidFill>
                  <a:latin typeface="Verdana"/>
                </a:rPr>
                <a:t>ФОНЕТИЧЕСКИЕ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АНТИТЕЗ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орот, в котором для усиления выразительности речи резко противопоставляются противоположные понят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де стол был яств, там гроб стоит (Г.Р.Державин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РАДА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положение слов, при котором каждое последующее содержит усиливающее значение, благодаря чему создается нарастание производимого впечатл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Приехав домой, они вошли в свои темные, душные, скучные комнаты (А.Чехов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ВЕРС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обычный порядок слов в предложении, нарушающий обычный, прямой, порядок сл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С ужасом думала я, к чему все это приведет. (А.С.Пушкин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ЛЛИП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илистическая фигура, заключающаяся в пропуске какого-либо подразумеваемого члена предло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Мы села – в пепел, грады – в прах, в мечи – серпы и плуги (В.Жуковский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КСЮМОРО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четание слов, противоположных по смысл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орячий снег, грустная радость, наедине с толп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АРЦЕЛЛЯЦ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собое членение предложения, неполные предложения. Содержание высказывания реализуется не в одном, а в нескольких речевых единицах, следующих одна за другой после паузы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«Там видно будет», - отвечает Корней. И молча лезет на козлы. (И. Бунин.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АРАЛЛЕЛИЗ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динаковое, сходное построение смежных фраз, предложе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Молодым везде у нас дорога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Старикам везде у нас почет (В.Лебедев-Кумач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НОГОСОЮЗ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меренное использование повторяющихся союзов для логического и интонационного подчеркивания соединяемых союзами членов предложен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Тонкий дождь сеялся и на леса, и на поля, и на широкий Днепр (Н.Гоголь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ЕССОЮЗ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меренный пропуск соединительных союзов между членами предложения, придающий фразе динами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Швед, русский - колет, рубит, режет, бой барабанный, клики, скрежет, гром пушек, топот, ржанье, стон… (А. Пушкин.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МОЛЧ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орот речи, заключающийся в том, что автор сознательно не до конца выражает мысль, предоставляя читателю самому догадываться о невысказанн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Нет, я хотел…быть может, вы…я думал, что уж барону время умереть. (А.С.Пушкин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52640"/>
            <a:ext cx="8244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ЕКСИЧЕСКИЕ СРЕДСТВА  ХУДОЖЕСТВЕННОЙ ВЫРАЗИТЕЛЬ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ИТОРИЧЕСКИЙ ВОПРО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прос ставится не с целью получить ответ, а чтобы привлечь внимание читателя или слушателя к тому или иному явлени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Знаете ли вы украинскую ночь? (Н.В.Гоголь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ИТОРИЧЕСКОЕ ОБРАЩ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черкнутое обращение к кому-либо или чему-либо для усиления выразительности реч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Цветы, любовь, деревня, праздность, поле! (А.С.Пушкин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691920"/>
            <a:ext cx="824400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фонетические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зобразительно-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ыразительные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редств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аллитерация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вторение согласных звуков в слове, фраз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Нева вздувалась и ревела, котлом клокоча и клубясь. (А. Пушкин.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ассонанс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вторение гласных звуков в слове, фраз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Будет буря - мы поспорим и помужествуем с н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(ассонанс на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у -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подражание звуку ветра, бури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1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лышно было до рассвета, как ликовал француз (М.Ю.Лермонт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гру его любил творец Макбета (А.С.Пушкин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арый клен на одной ноге стережет голубую Русь. (С.Есенин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уть шел по целине. Люди падали с обрывов (И.Эренбург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ь любить, так без рассудку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ь грозить, так не на шутку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ь ругнуть, так сгоряч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ь рубнуть, так уж сплеч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А.Толсто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нес достаточно русский народ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нес и эту дорогу железную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несет все, что господь не пошлет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несет все – и широкую, ясну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удью дорогу проложит себ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Н.Некрасов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Не станет нас!» А миру хоть бы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Исчезнет след!»А миру хоть бы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с не было, а он сиял и буд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чезнем мы, - а миру хоть бы чт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Омар Хайям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а свежа, как вешний цвет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злелеянный в тени дубравн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тополь киевских высот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а строй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А.С.Пушкин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89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пределите, какие стилистические фигуры и тропы встречаются в данных отрыв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и сошлись. Волна и камен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ихи и проза, лед и плам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столь различны меж соб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А.С.Пушкин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е нравятся веселые люди. Нравятся сияющие глаза, звонкий смех, громкий говор. Крики. Мне нравятся румяные девушки с коньками в руках. Или в спортивных туфельках, прыгающие вверх и вниз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ЕТАФО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о или предложение, которое употребляется в переносном значении на основе сходства одного понятия или явления с други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устых небес прозрачное стекло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агровый костер зака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лунный серп; густеет облаков волнистое руно. (И. Бунин.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Дыша духами и туманами она садится у окна. (А. Блок.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ечер. Взморье. Вздохи ветра.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еличавый возглас вол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лизко буря. В берег бье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Чуждый чарам черный чел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Бальмон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ечты, мечты! Где ваша сладость! (А. Пушкин.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леет парус одинокий  в  тумане  моря голубом. (М. Лермонтов.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Иль нам с Европой спорить ново? Иль русский от побед отвы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А. Пушкин.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 Анны беда стряслась. Большая. Случилось это давно. Очень давно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И божество, и вдохновенье, и жизнь, и слезы, и любов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А. Пушкин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день, каждый час, каждую секунду думаю о теб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ласковый ветер, ледяной взгляд, хрупкая девушка;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уманные меч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звернутая метафор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фора, представленная каким-либо текстом (например, стихотворением) или его отрывко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«Парус» Лермонтова, «Телега жизни» Пушкина, «Порог» Тургенева, «Огоньки» Короленк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ПИТ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о, определяющее предмет или действие и подчеркивающее в них какое-либо характерное свой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зное определение, обычно выраженное прилагательны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асковый ветер, ледяной взгляд, хрупкая девушка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уманные меч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ЭПИТЕ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оянный (употребляется в произведениях устного народного творчеств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образ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фори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РАВН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образительный прием, основанный на сопоставлении одного понятия, явления с другим с тем, чтобы пояснить одно из них при помощи друго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И, как ребенок после с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Дрожит звезда в огне денницы.  (И. Бунин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ак град посыпалась картечь. (А. Пушкин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А сама-то велича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ыступает будто пава.  (А.Пушкин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лицетворени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ный вид метафоры, перенос свойств живого явления на неживое, наделение предметного мира человеческими свойствами, его одушевл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десь даже камни плачут. Цветы мне говорят: «Прощай!» (С. Есенин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ж небо осенью дышало. (А. Пушкин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оссия вспрянет ото сна... (А. Пушкин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1:52:37Z</dcterms:created>
  <dc:creator>FoM</dc:creator>
  <dc:description/>
  <dc:language>en-US</dc:language>
  <cp:lastModifiedBy>Admin</cp:lastModifiedBy>
  <dcterms:modified xsi:type="dcterms:W3CDTF">2011-11-30T07:16:41Z</dcterms:modified>
  <cp:revision>3</cp:revision>
  <dc:subject/>
  <dc:title>СРЕДСТВА ХУДОЖЕСТВЕННОЙ ВЫРАЗИТЕЛЬНОСТИ</dc:title>
</cp:coreProperties>
</file>