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84655-AF8D-44E3-887C-611FE9156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62891-4C37-4148-B9CF-334DAC7B0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FDD20-CD7A-4917-BC28-50B9980E2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A2196-497E-4EAF-B1A6-5F7DDA0EE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7702E-4ED1-4E4B-8FF5-A8313D89F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EA546-C9F7-47E7-93D6-952425E27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44F75-1FA3-4815-AB1F-AD079964F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7E75E-7527-45DF-9A7E-8202A0000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C9C38-F132-467F-AE9F-9238CB1F6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8F538-D701-412D-8BF8-20558746C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67B4F-C7F3-4B3C-8862-ECBF035D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AF366-074A-4D87-8639-C7B1E4A24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0A3E7-00C3-4BE1-964A-83BF9497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2E701-A14E-4DA1-A535-3458762A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B3FDD-147E-49DA-AC41-B02FB783C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143F1-621C-4C36-9DD9-60B7CED84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84700-6B23-4D34-91CF-975CF0731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620DB-231B-495A-8CEB-97F16C1DD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224FE-B2FD-4377-A19F-4D1BAE678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B93B8-0645-4283-B106-54630F3C2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3A4D6-7B62-472A-98EE-E348B1AD7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9DA66-2BF1-49DE-AC47-D8061C99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CAFF8-04B8-473D-BFCE-2FAF38BB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C783B-B3C7-4126-B299-BE6C44C2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9A40C-C24D-4483-BD5E-7A180571A40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2CDF0-6143-4140-8278-BBFBA96E2B2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Средства художественной выразительности</a:t>
            </a: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	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одготовка к ЕГЭ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АНТОНИМ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Волна и камень, стихи и проза, лед и пламень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А.Пушкин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e5ff"/>
                </a:solidFill>
                <a:latin typeface="Garamond"/>
              </a:rPr>
              <a:t>ВВОДНЫЕ СЛОВА </a:t>
            </a:r>
            <a:br>
              <a:rPr sz="4000"/>
            </a:br>
            <a:r>
              <a:rPr b="0" lang="en-US" sz="4000" spc="-1" strike="noStrike">
                <a:solidFill>
                  <a:srgbClr val="e5e5ff"/>
                </a:solidFill>
                <a:latin typeface="Garamond"/>
              </a:rPr>
              <a:t>И ВЫРАЖЕНИ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Пожалуй, действовал я слишком смело, Да не всегда, быть может, и умело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З.Гиппиус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e5ff"/>
                </a:solidFill>
                <a:latin typeface="Garamond"/>
              </a:rPr>
              <a:t>РЯДЫ ОДНОРОДНЫХ </a:t>
            </a:r>
            <a:br>
              <a:rPr sz="4000"/>
            </a:br>
            <a:r>
              <a:rPr b="0" lang="en-US" sz="4000" spc="-1" strike="noStrike">
                <a:solidFill>
                  <a:srgbClr val="e5e5ff"/>
                </a:solidFill>
                <a:latin typeface="Garamond"/>
              </a:rPr>
              <a:t>ЧЛЕНОВ ПРЕДЛОЖЕНИ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Нет, не прячьтесь вы, будьте высокими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Не жалейте ни пуль, ни гранат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И себя не щадите… И все-так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Постарайтесь вернуться назад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Б.Окуджава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e5ff"/>
                </a:solidFill>
                <a:latin typeface="Garamond"/>
              </a:rPr>
              <a:t>ВОПРОСНО-ОТВЕТНАЯ </a:t>
            </a:r>
            <a:br>
              <a:rPr sz="4000"/>
            </a:br>
            <a:r>
              <a:rPr b="0" lang="en-US" sz="4000" spc="-1" strike="noStrike">
                <a:solidFill>
                  <a:srgbClr val="e5e5ff"/>
                </a:solidFill>
                <a:latin typeface="Garamond"/>
              </a:rPr>
              <a:t>ФОРМА ИЗЛОЖЕНИ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–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Отдать тебе любовь? – Отдай!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–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Она в грязи… – Отдай в грязи!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Р.Рождественский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ТРОП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метафора,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олицетворение,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метонимия,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ирония,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равнение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СТИЛИСТИЧЕСКИЕ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(РИТОРИЧЕСКИЕ) ФИГУРЫ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анафора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гипербола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литота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ксюморон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ерифраза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арцелляция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иторический вопрос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иторическое восклицание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интаксический параллелизм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0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ЛЕКСИЧЕСКИЕ И СИНТАКСИЧЕСКИЕ </a:t>
            </a:r>
            <a:br>
              <a:rPr sz="3600"/>
            </a:b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СРЕДСТВА ВЫРАЗИТЕЛЬНОСТИ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e5ff"/>
                </a:solidFill>
                <a:latin typeface="Garamond"/>
              </a:rPr>
              <a:t>СЛОВА РАЗНЫХ СТИЛЕЙ РЕЧ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термины, общественно-политическая лексика, разговорные и просторечные слова и выражения, диалектизм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Я вас любил. Любовь еще (возможно, что просто боль) сверлит мои мозги. Все разлетелось к черту на куски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И.Бродский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e5ff"/>
                </a:solidFill>
                <a:latin typeface="Garamond"/>
              </a:rPr>
              <a:t>ИНДИВИДУАЛЬНО-АВТОРСКИЕ СЛОВА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Garamond"/>
              </a:rPr>
              <a:t>Я свирел в свою свирель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(В.Хлебников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ЛЕКСИЧЕСКИЙ ПОВТОР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Город пышный, город бедный, дух неволи, стройный вид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А.Пушкин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ФРАЗЕОЛОГИЗМ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на белом свете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ложить душу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есть в лужу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СИНОНИМ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лицо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лик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морда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рож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2T13:46:43Z</dcterms:created>
  <dc:creator>Лена</dc:creator>
  <dc:description/>
  <dc:language>en-US</dc:language>
  <cp:lastModifiedBy>ivanova</cp:lastModifiedBy>
  <dcterms:modified xsi:type="dcterms:W3CDTF">2011-05-24T11:09:26Z</dcterms:modified>
  <cp:revision>14</cp:revision>
  <dc:subject/>
  <dc:title>Средства художественной выразительности </dc:title>
</cp:coreProperties>
</file>